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A17-A8AE-4BEC-911B-5DDA223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7F0-1F22-4048-B487-532BF80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397-B92A-4902-A9AE-BCB80482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370-19E1-4A6F-A83B-136C34CB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CAC-10A4-453C-A02D-27C48076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34E-6158-4B95-AA3F-65B3099B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C87-6D14-4DF0-BD1F-833B2D3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57C-2BAE-4415-A426-8FB55B3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DA7-DC14-4CB5-857B-0EA2D1FE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7C0-4140-440F-A94D-90FADC5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63F-9A56-4F80-82A1-0DF6F5C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B8D-648D-42A0-83C8-CB7D792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0B8E-D6A0-466B-A9DB-9BDFB4F3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635280" cy="89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808080"/>
                </a:solidFill>
                <a:latin typeface="comic"/>
              </a:rPr>
              <a:t>2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Тези, що със сълзи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добро семе с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 радост ще пожън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горе в небеса!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нопи те ще носят,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още и ще п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и във век ще глед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лавни чуд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158760"/>
            <a:ext cx="435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ано сутрин сей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ий доброто семе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йте, дор удар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ай-последний час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естта разгласе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между всяко племе -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лавна ще да бъд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етвата тог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6360" y="-27000"/>
            <a:ext cx="442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Щом ни Бог изпраща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ие навред ще ходим! Обещал, сполука -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еме безспир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ой ни благославя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ие пък Му носим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аш'те скъпоценни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ове във мир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4:12Z</dcterms:created>
  <dc:creator>TrifonTrifonow</dc:creator>
  <dc:description/>
  <dc:language>en-US</dc:language>
  <cp:lastModifiedBy>TrifonTrifonow</cp:lastModifiedBy>
  <dcterms:modified xsi:type="dcterms:W3CDTF">2005-12-01T20:35:39Z</dcterms:modified>
  <cp:revision>11</cp:revision>
  <dc:subject/>
  <dc:title>Slide 1</dc:title>
</cp:coreProperties>
</file>